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134F-6314-4EB5-83E3-A6B435C44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AA09-778D-4D22-8261-BFC7F4B15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6F9E-40B2-47C9-B047-CD298A9A2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9308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2440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6212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9308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2440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94BA-8B69-4049-8FCA-941EB5E8A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0917F-C264-4267-BBFE-DC4177D99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8BEDD-FC90-465D-8AEB-CCF2FAC42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B3857-5B19-44F5-A3A9-DA51B3D54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C621F-AFF7-4F76-BA05-0E64BAE65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00207-09AB-4437-BC45-C7E9DB68F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62120" y="1142640"/>
            <a:ext cx="80769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18372-D987-41AC-A017-35CF4D920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2636B-04FA-43E8-8776-0EBA4916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719F-5A83-4C3D-98B2-416CD1B06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A636D-3F5C-4284-9179-DE0B602A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B1A3C-2893-43D8-BFCA-642E7AEC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99EC5-A71A-4CA1-8FBE-C8085D2F9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16560-88A4-47A4-B69F-5FABFEBA0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9308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2440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6212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9308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2440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6FA38-D8A7-4590-A5AF-092E138D1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B3F6-796E-48F9-8129-3E1EDC686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0840-5F0D-4B81-9410-FC093306E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1A43-8822-44FF-8038-C813A458E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62120" y="1142640"/>
            <a:ext cx="80769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CF06-C54F-47F3-B65E-8EEE4482B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0C7B-6EAF-46A1-AEAA-A7DF1F7E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3797-DCF3-41F7-83E2-D2234F18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D7D2-382F-46C3-A573-84CA68C7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Futura Md BT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335880" indent="-335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2" marL="335880" indent="-3358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3" marL="335880" indent="-335880"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4" marL="335880" indent="-3358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5" marL="335880" indent="-3358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6" marL="335880" indent="-3358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33360" y="617220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920" y="617220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14840" y="617220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8335A-D3CB-437E-8DAA-8EA0A3AE46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nextslide"/>
          </p:cNvPr>
          <p:cNvSpPr/>
          <p:nvPr/>
        </p:nvSpPr>
        <p:spPr>
          <a:xfrm>
            <a:off x="16765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previousslide"/>
          </p:cNvPr>
          <p:cNvSpPr/>
          <p:nvPr/>
        </p:nvSpPr>
        <p:spPr>
          <a:xfrm>
            <a:off x="12193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firstslide"/>
          </p:cNvPr>
          <p:cNvSpPr/>
          <p:nvPr/>
        </p:nvSpPr>
        <p:spPr>
          <a:xfrm>
            <a:off x="7621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029200" y="609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Impact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05120" y="2742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Futura Md BT"/>
              </a:rPr>
              <a:t>Click to edit the title text format</a:t>
            </a:r>
            <a:endParaRPr b="0" lang="en-US" sz="48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20574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0384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70102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80503-3354-41CB-A4A6-5CB5178836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16765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0000"/>
                </a:solidFill>
                <a:latin typeface="Times New Roman"/>
              </a:rPr>
              <a:t>Click to edit the outline text format</a:t>
            </a:r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  <a:p>
            <a:pPr lvl="1" marL="44316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86680" algn="ctr">
              <a:spcBef>
                <a:spcPts val="499"/>
              </a:spcBef>
              <a:buClr>
                <a:srgbClr val="cc0000"/>
              </a:buClr>
              <a:buSzPct val="6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0200" algn="ctr">
              <a:spcBef>
                <a:spcPts val="300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773720" algn="ctr">
              <a:spcBef>
                <a:spcPts val="249"/>
              </a:spcBef>
              <a:buClr>
                <a:srgbClr val="cc0000"/>
              </a:buClr>
              <a:buSzPct val="65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773720">
              <a:spcBef>
                <a:spcPts val="24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773720">
              <a:spcBef>
                <a:spcPts val="24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5120" y="2742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Futura Md BT"/>
              </a:rPr>
              <a:t>Multimedia and Society</a:t>
            </a:r>
            <a:endParaRPr b="0" lang="en-US" sz="48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981080" y="8377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0000"/>
                </a:solidFill>
                <a:latin typeface="Times New Roman"/>
              </a:rPr>
              <a:t>Chapter 3</a:t>
            </a:r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Multimedia in Business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41148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Businesses use multimedia to sell products and services to consumers all over the globe.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876920" y="1981080"/>
            <a:ext cx="396216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What is e-commerce?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E-commerce is business transactions conducted over the Internet. These transactions are: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siness-to-Business transactions (B2B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siness-to-Consumer (B2C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stomer servi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ertis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Multimedia in the Workplace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orporations use multimedia and the Internet for: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ployee trai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king away from the offi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leconferen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ny network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Multimedia in Our Lives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Multimedia has added a new dimension to publishing, news, and entertainment. It is used for: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line ne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zi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line boo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ic distrib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active gam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cial intera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2743200"/>
            <a:ext cx="80773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8"/>
          <a:stretch/>
        </p:blipFill>
        <p:spPr>
          <a:xfrm>
            <a:off x="5872320" y="2057400"/>
            <a:ext cx="30049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Multimedia in Education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Multimedia and the Internet have provided new ways of teaching and learning, such as: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tance learning for virtual classrooms or online schoo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uter-based training (CBT) that allows people to learn at their own pa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Multimedia in Health Care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3818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Multimedia computer technology has created exciting developments in health care. It is used for: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emedicin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ians can diagnose and monitor patients at remote lo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cal training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ians, nurses, medical researchers, and technicians can get information or use simulations as part of their trai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dical information is available to the public through the Internet and CD-RO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0T16:48:11Z</dcterms:created>
  <dc:creator>LJ</dc:creator>
  <dc:description/>
  <dc:language>en-US</dc:language>
  <cp:lastModifiedBy>GLENCOE</cp:lastModifiedBy>
  <dcterms:modified xsi:type="dcterms:W3CDTF">2003-01-04T00:15:09Z</dcterms:modified>
  <cp:revision>15</cp:revision>
  <dc:subject/>
  <dc:title>Chapter 3 Multimedia and Society</dc:title>
</cp:coreProperties>
</file>